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02D-F914-4581-BA3B-F0EE0715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42B-DEDB-47BC-BB5D-CDA1973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CD9-ABCD-4485-B617-678BA85F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28B-50D9-41F3-9382-0B76B7E3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7CC-0D07-413D-8D95-A3EA625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8A1-E3A5-496B-BDF5-6CF3C4F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A18-E4B9-43F0-AF0C-1BADB83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245-70AB-4A63-897E-53F5AD5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6B3-10F8-438E-B115-8B0EFD98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2B3-F414-4F4F-B5F9-3EDB82B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799-4891-40A2-9DB3-10C9E57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C38-686B-4B4B-BAC6-6F609E9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140-3C9F-4F92-A261-FE16DA23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6600ff"/>
                </a:solidFill>
                <a:latin typeface="Arial"/>
              </a:rPr>
              <a:t>Bialowieza National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95840" y="280044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7840" y="23684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18446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4080" y="2277360"/>
            <a:ext cx="604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National park located in north-eastern part of Polish,</a:t>
            </a:r>
            <a:br>
              <a:rPr sz="1600"/>
            </a:b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 in Podlaskie province, </a:t>
            </a:r>
            <a:br>
              <a:rPr sz="1600"/>
            </a:b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created 17 August 1932 year as a National Park in Bialow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0920" y="4365720"/>
            <a:ext cx="1905120" cy="1218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7960" y="3069360"/>
            <a:ext cx="62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Białowieża is the best preserved natural</a:t>
            </a:r>
            <a:br>
              <a:rPr sz="1600"/>
            </a:b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 forest on the European Lowlands.</a:t>
            </a:r>
            <a:br>
              <a:rPr sz="1600"/>
            </a:b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 More than two thirds of its area covered by forests deciduo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2273400" y="342900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0000" y="400536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c00"/>
                </a:solidFill>
                <a:latin typeface="Arial"/>
              </a:rPr>
              <a:t>The symbol of the park b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1728720" cy="175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859280" y="4437000"/>
            <a:ext cx="287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20:24:31Z</dcterms:created>
  <dc:creator>Marcelinka</dc:creator>
  <dc:description/>
  <dc:language>en-US</dc:language>
  <cp:lastModifiedBy>Marcelinka</cp:lastModifiedBy>
  <dcterms:modified xsi:type="dcterms:W3CDTF">2010-05-29T20:41:49Z</dcterms:modified>
  <cp:revision>2</cp:revision>
  <dc:subject/>
  <dc:title>Bialowieza National Park</dc:title>
</cp:coreProperties>
</file>